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12.wmf" ContentType="image/x-wmf"/>
  <Override PartName="/ppt/media/image54.png" ContentType="image/png"/>
  <Override PartName="/ppt/media/image53.png" ContentType="image/png"/>
  <Override PartName="/ppt/media/image52.png" ContentType="image/png"/>
  <Override PartName="/ppt/media/image50.png" ContentType="image/png"/>
  <Override PartName="/ppt/media/image49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0.png" ContentType="image/png"/>
  <Override PartName="/ppt/media/image39.png" ContentType="image/png"/>
  <Override PartName="/ppt/media/image37.png" ContentType="image/png"/>
  <Override PartName="/ppt/media/image31.png" ContentType="image/png"/>
  <Override PartName="/ppt/media/image30.png" ContentType="image/png"/>
  <Override PartName="/ppt/media/image41.png" ContentType="image/png"/>
  <Override PartName="/ppt/media/image9.wmf" ContentType="image/x-wmf"/>
  <Override PartName="/ppt/media/image10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5.png" ContentType="image/png"/>
  <Override PartName="/ppt/media/image26.png" ContentType="image/png"/>
  <Override PartName="/ppt/media/image8.png" ContentType="image/png"/>
  <Override PartName="/ppt/media/image3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media/image27.png" ContentType="image/png"/>
  <Override PartName="/ppt/media/image7.jpeg" ContentType="image/jpeg"/>
  <Override PartName="/ppt/media/image16.png" ContentType="image/png"/>
  <Override PartName="/ppt/media/image4.png" ContentType="image/png"/>
  <Override PartName="/ppt/media/image34.png" ContentType="image/png"/>
  <Override PartName="/ppt/media/image51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move the slide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enir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veni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enir"/>
              </a:rPr>
              <a:t>Magnetic field plays an important role in physics, it is a useful probe of nonperturbative QCD. magnetic field exits in nature and experiments, especially, it is very strong in ……and now in HIC, the </a:t>
            </a:r>
            <a:endParaRPr b="0" lang="en-US" sz="2400" spc="-1" strike="noStrike">
              <a:solidFill>
                <a:srgbClr val="000000"/>
              </a:solidFill>
              <a:latin typeface="Avenir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enir"/>
              </a:rPr>
              <a:t>It is still mysterious to us. ……  these topics are attractive recently.</a:t>
            </a:r>
            <a:endParaRPr b="0" lang="en-US" sz="2400" spc="-1" strike="noStrike">
              <a:solidFill>
                <a:srgbClr val="000000"/>
              </a:solidFill>
              <a:latin typeface="Aveni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636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730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10944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14616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14616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14616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20340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4068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61020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81360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81360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81360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54080" y="740880"/>
            <a:ext cx="112996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600" spc="-1" strike="noStrike">
                <a:solidFill>
                  <a:srgbClr val="0433ff"/>
                </a:solidFill>
                <a:latin typeface="Helvetica Light"/>
              </a:rPr>
              <a:t>Screening masses of neutral pion and sigma in hot and magnetized medium</a:t>
            </a:r>
            <a:endParaRPr b="0" lang="en-US" sz="6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52480" y="5787720"/>
            <a:ext cx="1129824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Diwan Kufi"/>
                <a:ea typeface="Diwan Kufi"/>
              </a:rPr>
              <a:t>Lang Yu (</a:t>
            </a:r>
            <a:r>
              <a:rPr b="0" lang="zh-CN" sz="6000" spc="-1" strike="noStrike">
                <a:solidFill>
                  <a:srgbClr val="ff0000"/>
                </a:solidFill>
                <a:latin typeface="Diwan Kufi"/>
                <a:ea typeface="宋体"/>
              </a:rPr>
              <a:t>余浪</a:t>
            </a:r>
            <a:r>
              <a:rPr b="0" lang="en-US" sz="6000" spc="-1" strike="noStrike">
                <a:solidFill>
                  <a:srgbClr val="ff0000"/>
                </a:solidFill>
                <a:latin typeface="Diwan Kufi"/>
                <a:ea typeface="Diwan Kufi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Diwan Kufi"/>
                <a:ea typeface="Diwan Kufi"/>
              </a:rPr>
              <a:t>Jilin University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2571560" y="9318600"/>
            <a:ext cx="24264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EF8C09-17BC-4DE5-962D-E1E3632B6EF6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2271600" y="7807320"/>
            <a:ext cx="846000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Diwan Kufi"/>
                <a:ea typeface="Diwan Kufi"/>
              </a:rPr>
              <a:t>collaboration with Xinyang Wang and Danning Li</a:t>
            </a:r>
            <a:endParaRPr b="0" lang="en-US" sz="3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200160" y="196920"/>
            <a:ext cx="1707840" cy="17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4880" y="196920"/>
            <a:ext cx="1109988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0433ff"/>
                </a:solidFill>
                <a:latin typeface="Helvetica Light"/>
              </a:rPr>
              <a:t>Neutral pion and sigma in the magnetic field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12654000" y="9299520"/>
            <a:ext cx="24120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525BF0-A9DC-494A-9082-4F94E0CF46C2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463680" y="1778040"/>
            <a:ext cx="12304440" cy="76320"/>
          </a:xfrm>
          <a:prstGeom prst="rect">
            <a:avLst/>
          </a:prstGeom>
          <a:ln w="0">
            <a:noFill/>
          </a:ln>
        </p:spPr>
      </p:pic>
      <p:sp>
        <p:nvSpPr>
          <p:cNvPr id="148" name="标题 1"/>
          <p:cNvSpPr/>
          <p:nvPr/>
        </p:nvSpPr>
        <p:spPr>
          <a:xfrm>
            <a:off x="741240" y="1849320"/>
            <a:ext cx="111474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Anisotropic dispersion relation for neutral pions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49" name="图片 8" descr=""/>
          <p:cNvPicPr/>
          <p:nvPr/>
        </p:nvPicPr>
        <p:blipFill>
          <a:blip r:embed="rId2"/>
          <a:stretch/>
        </p:blipFill>
        <p:spPr>
          <a:xfrm>
            <a:off x="801720" y="8201160"/>
            <a:ext cx="5813280" cy="70632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9" descr=""/>
          <p:cNvPicPr/>
          <p:nvPr/>
        </p:nvPicPr>
        <p:blipFill>
          <a:blip r:embed="rId3"/>
          <a:stretch/>
        </p:blipFill>
        <p:spPr>
          <a:xfrm>
            <a:off x="7149960" y="8201160"/>
            <a:ext cx="4119840" cy="7776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0" descr=""/>
          <p:cNvPicPr/>
          <p:nvPr/>
        </p:nvPicPr>
        <p:blipFill>
          <a:blip r:embed="rId4"/>
          <a:stretch/>
        </p:blipFill>
        <p:spPr>
          <a:xfrm>
            <a:off x="5170320" y="5205240"/>
            <a:ext cx="3576960" cy="1225800"/>
          </a:xfrm>
          <a:prstGeom prst="rect">
            <a:avLst/>
          </a:prstGeom>
          <a:ln w="0">
            <a:noFill/>
          </a:ln>
        </p:spPr>
      </p:pic>
      <p:sp>
        <p:nvSpPr>
          <p:cNvPr id="152" name="矩形 11"/>
          <p:cNvSpPr/>
          <p:nvPr/>
        </p:nvSpPr>
        <p:spPr>
          <a:xfrm>
            <a:off x="714240" y="5384880"/>
            <a:ext cx="41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Helvetica Light"/>
              </a:rPr>
              <a:t>Screening masses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3" name="矩形 18"/>
          <p:cNvSpPr/>
          <p:nvPr/>
        </p:nvSpPr>
        <p:spPr>
          <a:xfrm>
            <a:off x="688320" y="4452840"/>
            <a:ext cx="36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Helvetica Light"/>
              </a:rPr>
              <a:t>Speed of sound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54" name="图片 14" descr=""/>
          <p:cNvPicPr/>
          <p:nvPr/>
        </p:nvPicPr>
        <p:blipFill>
          <a:blip r:embed="rId5"/>
          <a:stretch/>
        </p:blipFill>
        <p:spPr>
          <a:xfrm>
            <a:off x="4606920" y="4452840"/>
            <a:ext cx="1366920" cy="911160"/>
          </a:xfrm>
          <a:prstGeom prst="rect">
            <a:avLst/>
          </a:prstGeom>
          <a:ln w="0">
            <a:noFill/>
          </a:ln>
        </p:spPr>
      </p:pic>
      <p:sp>
        <p:nvSpPr>
          <p:cNvPr id="155" name="标题 1"/>
          <p:cNvSpPr/>
          <p:nvPr/>
        </p:nvSpPr>
        <p:spPr>
          <a:xfrm>
            <a:off x="801720" y="6272280"/>
            <a:ext cx="11147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At finite T and B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6" name="矩形 21"/>
          <p:cNvSpPr/>
          <p:nvPr/>
        </p:nvSpPr>
        <p:spPr>
          <a:xfrm>
            <a:off x="572400" y="7415280"/>
            <a:ext cx="97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Helvetica Light"/>
              </a:rPr>
              <a:t>If the magnetic field is along the z direction,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57" name="内容占位符 2" descr=""/>
          <p:cNvPicPr/>
          <p:nvPr/>
        </p:nvPicPr>
        <p:blipFill>
          <a:blip r:embed="rId6"/>
          <a:stretch/>
        </p:blipFill>
        <p:spPr>
          <a:xfrm>
            <a:off x="3375000" y="2976480"/>
            <a:ext cx="57992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4880" y="196920"/>
            <a:ext cx="1109988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0433ff"/>
                </a:solidFill>
                <a:latin typeface="Helvetica Light"/>
              </a:rPr>
              <a:t>Neutral pion and sigma in the magnetic field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12654000" y="9299520"/>
            <a:ext cx="24120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7FC4DC-5F54-47C7-AEF5-C81EC4A7A95B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463680" y="1778040"/>
            <a:ext cx="12304440" cy="76320"/>
          </a:xfrm>
          <a:prstGeom prst="rect">
            <a:avLst/>
          </a:prstGeom>
          <a:ln w="0">
            <a:noFill/>
          </a:ln>
        </p:spPr>
      </p:pic>
      <p:sp>
        <p:nvSpPr>
          <p:cNvPr id="161" name="标题 1"/>
          <p:cNvSpPr/>
          <p:nvPr/>
        </p:nvSpPr>
        <p:spPr>
          <a:xfrm>
            <a:off x="741240" y="1849320"/>
            <a:ext cx="111474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Screening masses of mesons at finite T and B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722160" y="3152880"/>
            <a:ext cx="11153880" cy="792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Sh. Fayazbakhsh ,S. Sadeghian , N. Sadooghi , Phys.Rev. D86 (2012) 085042 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3" name="矩形 16"/>
          <p:cNvSpPr/>
          <p:nvPr/>
        </p:nvSpPr>
        <p:spPr>
          <a:xfrm>
            <a:off x="0" y="4016520"/>
            <a:ext cx="113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Ziyue Wang and Pengfei Zhuang, Phys.Rev. D97 (2018) no.3, 034026  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41240" y="5275440"/>
            <a:ext cx="10542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  <a:ea typeface="黑体"/>
              </a:rPr>
              <a:t>Both of them are done by derivative expansion method within the NJL model, which is equivalent to the Random phase approximation (RPA) in the low momentum limit.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814320" y="3436920"/>
            <a:ext cx="10944360" cy="27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"/>
                <a:ea typeface="宋体"/>
              </a:rPr>
              <a:t>NJL model and Formalism</a:t>
            </a:r>
            <a:endParaRPr b="0" lang="en-US" sz="5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04480" y="242640"/>
            <a:ext cx="1142676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0433ff"/>
                </a:solidFill>
                <a:latin typeface="Helvetica Light"/>
              </a:rPr>
              <a:t>NJL model and Formalism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tretch/>
        </p:blipFill>
        <p:spPr>
          <a:xfrm>
            <a:off x="565200" y="2259000"/>
            <a:ext cx="12304800" cy="763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7"/>
          <p:cNvSpPr/>
          <p:nvPr/>
        </p:nvSpPr>
        <p:spPr>
          <a:xfrm>
            <a:off x="12390480" y="9302760"/>
            <a:ext cx="36828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449A16-8814-4638-8601-BB5138A63BFB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69" name="图片 1" descr=""/>
          <p:cNvPicPr/>
          <p:nvPr/>
        </p:nvPicPr>
        <p:blipFill>
          <a:blip r:embed="rId2"/>
          <a:stretch/>
        </p:blipFill>
        <p:spPr>
          <a:xfrm>
            <a:off x="2614680" y="2573280"/>
            <a:ext cx="7154640" cy="1147680"/>
          </a:xfrm>
          <a:prstGeom prst="rect">
            <a:avLst/>
          </a:prstGeom>
          <a:ln w="0">
            <a:noFill/>
          </a:ln>
        </p:spPr>
      </p:pic>
      <p:sp>
        <p:nvSpPr>
          <p:cNvPr id="170" name="标题 1"/>
          <p:cNvSpPr/>
          <p:nvPr/>
        </p:nvSpPr>
        <p:spPr>
          <a:xfrm>
            <a:off x="843120" y="4049640"/>
            <a:ext cx="1191240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Mean field approximation (MFA)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                          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Random phase approximation (RPA)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1" name="矩形 5"/>
          <p:cNvSpPr/>
          <p:nvPr/>
        </p:nvSpPr>
        <p:spPr>
          <a:xfrm>
            <a:off x="6042240" y="7889760"/>
            <a:ext cx="2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2" name="矩形 17"/>
          <p:cNvSpPr/>
          <p:nvPr/>
        </p:nvSpPr>
        <p:spPr>
          <a:xfrm>
            <a:off x="612000" y="6073920"/>
            <a:ext cx="109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Helvetica Light"/>
              </a:rPr>
              <a:t>Gap equation  +   The quark-antiquark T matrix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3"/>
          <a:stretch/>
        </p:blipFill>
        <p:spPr>
          <a:xfrm>
            <a:off x="2554200" y="7192800"/>
            <a:ext cx="1955880" cy="76680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7" descr=""/>
          <p:cNvPicPr/>
          <p:nvPr/>
        </p:nvPicPr>
        <p:blipFill>
          <a:blip r:embed="rId4"/>
          <a:stretch/>
        </p:blipFill>
        <p:spPr>
          <a:xfrm>
            <a:off x="4697280" y="6850080"/>
            <a:ext cx="4241880" cy="141912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8" descr=""/>
          <p:cNvPicPr/>
          <p:nvPr/>
        </p:nvPicPr>
        <p:blipFill>
          <a:blip r:embed="rId5"/>
          <a:stretch/>
        </p:blipFill>
        <p:spPr>
          <a:xfrm>
            <a:off x="9356760" y="7188120"/>
            <a:ext cx="1785960" cy="6098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9" descr=""/>
          <p:cNvPicPr/>
          <p:nvPr/>
        </p:nvPicPr>
        <p:blipFill>
          <a:blip r:embed="rId6"/>
          <a:stretch/>
        </p:blipFill>
        <p:spPr>
          <a:xfrm>
            <a:off x="1104840" y="8675640"/>
            <a:ext cx="4460760" cy="6732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0" descr=""/>
          <p:cNvPicPr/>
          <p:nvPr/>
        </p:nvPicPr>
        <p:blipFill>
          <a:blip r:embed="rId7"/>
          <a:stretch/>
        </p:blipFill>
        <p:spPr>
          <a:xfrm>
            <a:off x="6377040" y="8675640"/>
            <a:ext cx="492912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888840" y="7920"/>
            <a:ext cx="1153008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0433ff"/>
                </a:solidFill>
                <a:latin typeface="Helvetica Light"/>
              </a:rPr>
              <a:t>NJL model and Formalism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501480" y="2131920"/>
            <a:ext cx="12304800" cy="7632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3"/>
          <p:cNvSpPr/>
          <p:nvPr/>
        </p:nvSpPr>
        <p:spPr>
          <a:xfrm>
            <a:off x="501480" y="3130560"/>
            <a:ext cx="1261296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Diwan Kufi"/>
                <a:ea typeface="Diwan Kufi"/>
              </a:rPr>
              <a:t>Quark propagator  in the Landau-level representation in momentum space</a:t>
            </a:r>
            <a:r>
              <a:rPr b="0" lang="en-US" sz="3000" spc="-1" strike="noStrike">
                <a:solidFill>
                  <a:srgbClr val="ff0000"/>
                </a:solidFill>
                <a:latin typeface="Diwan Kufi"/>
                <a:ea typeface="Diwan Kuf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1" name="AutoShape 16"/>
          <p:cNvSpPr/>
          <p:nvPr/>
        </p:nvSpPr>
        <p:spPr>
          <a:xfrm>
            <a:off x="12634920" y="9252000"/>
            <a:ext cx="36972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B25192-F1ED-42F8-9D3C-640020498792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82" name="图片 1" descr=""/>
          <p:cNvPicPr/>
          <p:nvPr/>
        </p:nvPicPr>
        <p:blipFill>
          <a:blip r:embed="rId2"/>
          <a:stretch/>
        </p:blipFill>
        <p:spPr>
          <a:xfrm>
            <a:off x="3051000" y="3745080"/>
            <a:ext cx="5951880" cy="92052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2" descr=""/>
          <p:cNvPicPr/>
          <p:nvPr/>
        </p:nvPicPr>
        <p:blipFill>
          <a:blip r:embed="rId3"/>
          <a:stretch/>
        </p:blipFill>
        <p:spPr>
          <a:xfrm>
            <a:off x="3073320" y="4614840"/>
            <a:ext cx="5929560" cy="122076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3" descr=""/>
          <p:cNvPicPr/>
          <p:nvPr/>
        </p:nvPicPr>
        <p:blipFill>
          <a:blip r:embed="rId4"/>
          <a:stretch/>
        </p:blipFill>
        <p:spPr>
          <a:xfrm>
            <a:off x="2712960" y="5824440"/>
            <a:ext cx="6648480" cy="111276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4" descr=""/>
          <p:cNvPicPr/>
          <p:nvPr/>
        </p:nvPicPr>
        <p:blipFill>
          <a:blip r:embed="rId5"/>
          <a:stretch/>
        </p:blipFill>
        <p:spPr>
          <a:xfrm>
            <a:off x="1112760" y="7389720"/>
            <a:ext cx="11082240" cy="540000"/>
          </a:xfrm>
          <a:prstGeom prst="rect">
            <a:avLst/>
          </a:prstGeom>
          <a:ln w="0">
            <a:noFill/>
          </a:ln>
        </p:spPr>
      </p:pic>
      <p:sp>
        <p:nvSpPr>
          <p:cNvPr id="186" name="标题 1"/>
          <p:cNvSpPr/>
          <p:nvPr/>
        </p:nvSpPr>
        <p:spPr>
          <a:xfrm>
            <a:off x="506520" y="2236680"/>
            <a:ext cx="119124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pion pole and longitudinal screening masses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1"/>
          <p:cNvSpPr/>
          <p:nvPr/>
        </p:nvSpPr>
        <p:spPr>
          <a:xfrm>
            <a:off x="888840" y="7920"/>
            <a:ext cx="1153008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0433ff"/>
                </a:solidFill>
                <a:latin typeface="Helvetica Light"/>
              </a:rPr>
              <a:t>NJL model and Formalism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501480" y="2131920"/>
            <a:ext cx="12304800" cy="7632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16"/>
          <p:cNvSpPr/>
          <p:nvPr/>
        </p:nvSpPr>
        <p:spPr>
          <a:xfrm>
            <a:off x="12634920" y="9252000"/>
            <a:ext cx="36972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FF469B-4260-40A6-ABDF-430D6F624D89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0" name="标题 1"/>
          <p:cNvSpPr/>
          <p:nvPr/>
        </p:nvSpPr>
        <p:spPr>
          <a:xfrm>
            <a:off x="506520" y="2236680"/>
            <a:ext cx="119124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pion pole masses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91" name="图片 5" descr=""/>
          <p:cNvPicPr/>
          <p:nvPr/>
        </p:nvPicPr>
        <p:blipFill>
          <a:blip r:embed="rId2"/>
          <a:stretch/>
        </p:blipFill>
        <p:spPr>
          <a:xfrm>
            <a:off x="1677960" y="3481560"/>
            <a:ext cx="9164520" cy="85068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6" descr=""/>
          <p:cNvPicPr/>
          <p:nvPr/>
        </p:nvPicPr>
        <p:blipFill>
          <a:blip r:embed="rId3"/>
          <a:stretch/>
        </p:blipFill>
        <p:spPr>
          <a:xfrm>
            <a:off x="2898720" y="4548240"/>
            <a:ext cx="5553000" cy="113976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7" descr=""/>
          <p:cNvPicPr/>
          <p:nvPr/>
        </p:nvPicPr>
        <p:blipFill>
          <a:blip r:embed="rId4"/>
          <a:stretch/>
        </p:blipFill>
        <p:spPr>
          <a:xfrm>
            <a:off x="2290680" y="5524560"/>
            <a:ext cx="6767640" cy="111600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8" descr=""/>
          <p:cNvPicPr/>
          <p:nvPr/>
        </p:nvPicPr>
        <p:blipFill>
          <a:blip r:embed="rId5"/>
          <a:stretch/>
        </p:blipFill>
        <p:spPr>
          <a:xfrm>
            <a:off x="2886120" y="6746760"/>
            <a:ext cx="6502320" cy="108612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9" descr=""/>
          <p:cNvPicPr/>
          <p:nvPr/>
        </p:nvPicPr>
        <p:blipFill>
          <a:blip r:embed="rId6"/>
          <a:stretch/>
        </p:blipFill>
        <p:spPr>
          <a:xfrm>
            <a:off x="2290680" y="7831080"/>
            <a:ext cx="8917200" cy="118764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0" descr=""/>
          <p:cNvPicPr/>
          <p:nvPr/>
        </p:nvPicPr>
        <p:blipFill>
          <a:blip r:embed="rId7"/>
          <a:stretch/>
        </p:blipFill>
        <p:spPr>
          <a:xfrm>
            <a:off x="8691480" y="9088560"/>
            <a:ext cx="215604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1"/>
          <p:cNvSpPr/>
          <p:nvPr/>
        </p:nvSpPr>
        <p:spPr>
          <a:xfrm>
            <a:off x="888840" y="7920"/>
            <a:ext cx="1153008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0433ff"/>
                </a:solidFill>
                <a:latin typeface="Helvetica Light"/>
              </a:rPr>
              <a:t>NJL model and Formalism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501480" y="2131920"/>
            <a:ext cx="12304800" cy="7632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6"/>
          <p:cNvSpPr/>
          <p:nvPr/>
        </p:nvSpPr>
        <p:spPr>
          <a:xfrm>
            <a:off x="12634920" y="9252000"/>
            <a:ext cx="36972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C1F9AC-9D13-4599-9E35-4E89FEC68F20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0" name="标题 1"/>
          <p:cNvSpPr/>
          <p:nvPr/>
        </p:nvSpPr>
        <p:spPr>
          <a:xfrm>
            <a:off x="506520" y="2236680"/>
            <a:ext cx="119124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Longitudinal screening masses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01" name="图片 6" descr=""/>
          <p:cNvPicPr/>
          <p:nvPr/>
        </p:nvPicPr>
        <p:blipFill>
          <a:blip r:embed="rId2"/>
          <a:stretch/>
        </p:blipFill>
        <p:spPr>
          <a:xfrm>
            <a:off x="2427120" y="3435480"/>
            <a:ext cx="7751880" cy="72072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7" descr=""/>
          <p:cNvPicPr/>
          <p:nvPr/>
        </p:nvPicPr>
        <p:blipFill>
          <a:blip r:embed="rId3"/>
          <a:stretch/>
        </p:blipFill>
        <p:spPr>
          <a:xfrm>
            <a:off x="2398680" y="4660920"/>
            <a:ext cx="8150400" cy="122400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9" descr=""/>
          <p:cNvPicPr/>
          <p:nvPr/>
        </p:nvPicPr>
        <p:blipFill>
          <a:blip r:embed="rId4"/>
          <a:stretch/>
        </p:blipFill>
        <p:spPr>
          <a:xfrm>
            <a:off x="2181240" y="6222960"/>
            <a:ext cx="8856720" cy="12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1"/>
          <p:cNvSpPr/>
          <p:nvPr/>
        </p:nvSpPr>
        <p:spPr>
          <a:xfrm>
            <a:off x="888840" y="7920"/>
            <a:ext cx="1153008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0433ff"/>
                </a:solidFill>
                <a:latin typeface="Helvetica Light"/>
              </a:rPr>
              <a:t>NJL model and Formalism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01480" y="2131920"/>
            <a:ext cx="12304800" cy="7632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3"/>
          <p:cNvSpPr/>
          <p:nvPr/>
        </p:nvSpPr>
        <p:spPr>
          <a:xfrm>
            <a:off x="501480" y="3130560"/>
            <a:ext cx="1261296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Diwan Kufi"/>
                <a:ea typeface="Diwan Kufi"/>
              </a:rPr>
              <a:t>Quark propagator  in the Landau-level representation in mixed  coordinate-momentum space</a:t>
            </a:r>
            <a:r>
              <a:rPr b="0" lang="en-US" sz="3000" spc="-1" strike="noStrike">
                <a:solidFill>
                  <a:srgbClr val="ff0000"/>
                </a:solidFill>
                <a:latin typeface="Diwan Kufi"/>
                <a:ea typeface="Diwan Kuf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7" name="AutoShape 16"/>
          <p:cNvSpPr/>
          <p:nvPr/>
        </p:nvSpPr>
        <p:spPr>
          <a:xfrm>
            <a:off x="12634920" y="9252000"/>
            <a:ext cx="36972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FEA3C8-6C52-43ED-8924-DDCB46323898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8" name="标题 1"/>
          <p:cNvSpPr/>
          <p:nvPr/>
        </p:nvSpPr>
        <p:spPr>
          <a:xfrm>
            <a:off x="506520" y="2236680"/>
            <a:ext cx="119124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Transverse screening masses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09" name="图片 6" descr=""/>
          <p:cNvPicPr/>
          <p:nvPr/>
        </p:nvPicPr>
        <p:blipFill>
          <a:blip r:embed="rId2"/>
          <a:stretch/>
        </p:blipFill>
        <p:spPr>
          <a:xfrm>
            <a:off x="3170160" y="4060800"/>
            <a:ext cx="6050160" cy="11016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7" descr=""/>
          <p:cNvPicPr/>
          <p:nvPr/>
        </p:nvPicPr>
        <p:blipFill>
          <a:blip r:embed="rId3"/>
          <a:stretch/>
        </p:blipFill>
        <p:spPr>
          <a:xfrm>
            <a:off x="2541600" y="5308560"/>
            <a:ext cx="7840800" cy="113364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8" descr=""/>
          <p:cNvPicPr/>
          <p:nvPr/>
        </p:nvPicPr>
        <p:blipFill>
          <a:blip r:embed="rId4"/>
          <a:stretch/>
        </p:blipFill>
        <p:spPr>
          <a:xfrm>
            <a:off x="1246320" y="6796080"/>
            <a:ext cx="107092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1"/>
          <p:cNvSpPr/>
          <p:nvPr/>
        </p:nvSpPr>
        <p:spPr>
          <a:xfrm>
            <a:off x="888840" y="7920"/>
            <a:ext cx="1153008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0433ff"/>
                </a:solidFill>
                <a:latin typeface="Helvetica Light"/>
              </a:rPr>
              <a:t>NJL model and Formalism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501480" y="2131920"/>
            <a:ext cx="12304800" cy="7632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16"/>
          <p:cNvSpPr/>
          <p:nvPr/>
        </p:nvSpPr>
        <p:spPr>
          <a:xfrm>
            <a:off x="12634920" y="9252000"/>
            <a:ext cx="36972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8210B4-9C0E-4E28-9158-78BCB2B21529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5" name="标题 1"/>
          <p:cNvSpPr/>
          <p:nvPr/>
        </p:nvSpPr>
        <p:spPr>
          <a:xfrm>
            <a:off x="506520" y="2236680"/>
            <a:ext cx="119124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Transverse screening masses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16" name="图片 10" descr=""/>
          <p:cNvPicPr/>
          <p:nvPr/>
        </p:nvPicPr>
        <p:blipFill>
          <a:blip r:embed="rId2"/>
          <a:stretch/>
        </p:blipFill>
        <p:spPr>
          <a:xfrm>
            <a:off x="1330200" y="4843440"/>
            <a:ext cx="10201320" cy="10796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1" descr=""/>
          <p:cNvPicPr/>
          <p:nvPr/>
        </p:nvPicPr>
        <p:blipFill>
          <a:blip r:embed="rId3"/>
          <a:stretch/>
        </p:blipFill>
        <p:spPr>
          <a:xfrm>
            <a:off x="1554120" y="3051000"/>
            <a:ext cx="9360000" cy="17971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2" descr=""/>
          <p:cNvPicPr/>
          <p:nvPr/>
        </p:nvPicPr>
        <p:blipFill>
          <a:blip r:embed="rId4"/>
          <a:stretch/>
        </p:blipFill>
        <p:spPr>
          <a:xfrm>
            <a:off x="3186000" y="6114960"/>
            <a:ext cx="6096240" cy="89064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3" descr=""/>
          <p:cNvPicPr/>
          <p:nvPr/>
        </p:nvPicPr>
        <p:blipFill>
          <a:blip r:embed="rId5"/>
          <a:stretch/>
        </p:blipFill>
        <p:spPr>
          <a:xfrm>
            <a:off x="157320" y="7297560"/>
            <a:ext cx="5984640" cy="152748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4" descr=""/>
          <p:cNvPicPr/>
          <p:nvPr/>
        </p:nvPicPr>
        <p:blipFill>
          <a:blip r:embed="rId6"/>
          <a:stretch/>
        </p:blipFill>
        <p:spPr>
          <a:xfrm>
            <a:off x="6462720" y="7348680"/>
            <a:ext cx="637704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1"/>
          <p:cNvSpPr/>
          <p:nvPr/>
        </p:nvSpPr>
        <p:spPr>
          <a:xfrm>
            <a:off x="888840" y="7920"/>
            <a:ext cx="1153008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0433ff"/>
                </a:solidFill>
                <a:latin typeface="Helvetica Light"/>
              </a:rPr>
              <a:t>NJL model and Formalism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01480" y="2131920"/>
            <a:ext cx="12304800" cy="7632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3"/>
          <p:cNvSpPr/>
          <p:nvPr/>
        </p:nvSpPr>
        <p:spPr>
          <a:xfrm>
            <a:off x="501480" y="3130560"/>
            <a:ext cx="1261296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Diwan Kufi"/>
                <a:ea typeface="Diwan Kufi"/>
              </a:rPr>
              <a:t>Quark propagator  in the proper-time representation in momentum space</a:t>
            </a:r>
            <a:r>
              <a:rPr b="0" lang="en-US" sz="3000" spc="-1" strike="noStrike">
                <a:solidFill>
                  <a:srgbClr val="ff0000"/>
                </a:solidFill>
                <a:latin typeface="Diwan Kufi"/>
                <a:ea typeface="Diwan Kuf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4" name="AutoShape 16"/>
          <p:cNvSpPr/>
          <p:nvPr/>
        </p:nvSpPr>
        <p:spPr>
          <a:xfrm>
            <a:off x="12634920" y="9252000"/>
            <a:ext cx="36972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8A4C44-7CAF-4B2B-9160-3351F349C948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5" name="标题 1"/>
          <p:cNvSpPr/>
          <p:nvPr/>
        </p:nvSpPr>
        <p:spPr>
          <a:xfrm>
            <a:off x="506520" y="2236680"/>
            <a:ext cx="119124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Transverse screening masses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26" name="图片 1" descr=""/>
          <p:cNvPicPr/>
          <p:nvPr/>
        </p:nvPicPr>
        <p:blipFill>
          <a:blip r:embed="rId2"/>
          <a:stretch/>
        </p:blipFill>
        <p:spPr>
          <a:xfrm>
            <a:off x="493560" y="4129200"/>
            <a:ext cx="11909520" cy="93816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2" descr=""/>
          <p:cNvPicPr/>
          <p:nvPr/>
        </p:nvPicPr>
        <p:blipFill>
          <a:blip r:embed="rId3"/>
          <a:stretch/>
        </p:blipFill>
        <p:spPr>
          <a:xfrm>
            <a:off x="173160" y="5843520"/>
            <a:ext cx="126331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8680" y="442800"/>
            <a:ext cx="110984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9400" spc="-1" strike="noStrike">
                <a:solidFill>
                  <a:srgbClr val="0433ff"/>
                </a:solidFill>
                <a:latin typeface="Helvetica Light"/>
              </a:rPr>
              <a:t>Outline</a:t>
            </a:r>
            <a:endParaRPr b="0" lang="en-US" sz="9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0000" y="2203560"/>
            <a:ext cx="1109988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44600" indent="-44460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SzPct val="75000"/>
              <a:buFont typeface="Diwan Kufi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iwan Kufi"/>
                <a:ea typeface="Diwan Kufi"/>
              </a:rPr>
              <a:t>Introduction &amp; Motivation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SzPct val="75000"/>
              <a:buFont typeface="Diwan Kufi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iwan Kufi"/>
                <a:ea typeface="Diwan Kufi"/>
              </a:rPr>
              <a:t>NJL model and Formalism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SzPct val="75000"/>
              <a:buFont typeface="Diwan Kufi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iwan Kufi"/>
                <a:ea typeface="Diwan Kufi"/>
              </a:rPr>
              <a:t>Numerical Result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SzPct val="75000"/>
              <a:buFont typeface="Diwan Kufi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iwan Kufi"/>
                <a:ea typeface="Diwan Kufi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12622320" y="9302760"/>
            <a:ext cx="24264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FE80F5-6BEC-4053-AE33-187E49E0D249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814320" y="3436920"/>
            <a:ext cx="10944360" cy="27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"/>
                <a:ea typeface="宋体"/>
              </a:rPr>
              <a:t>Numerical Results</a:t>
            </a:r>
            <a:endParaRPr b="0" lang="en-US" sz="5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7000" y="271440"/>
            <a:ext cx="12247560" cy="21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0433ff"/>
                </a:solidFill>
                <a:latin typeface="Helvetica Light"/>
              </a:rPr>
              <a:t>Numerical Results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349200" y="2246400"/>
            <a:ext cx="12304800" cy="7596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9"/>
          <p:cNvSpPr/>
          <p:nvPr/>
        </p:nvSpPr>
        <p:spPr>
          <a:xfrm>
            <a:off x="12634920" y="9252000"/>
            <a:ext cx="36972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6B1CBA-98AB-43A4-BC63-DA863C504868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461880" y="2470320"/>
            <a:ext cx="12217320" cy="1433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elvetica Light"/>
              </a:rPr>
              <a:t>Pauli-Villars scheme:  preserves the Lorentz symmetry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3" name="矩形 1"/>
          <p:cNvSpPr/>
          <p:nvPr/>
        </p:nvSpPr>
        <p:spPr>
          <a:xfrm>
            <a:off x="461880" y="4065480"/>
            <a:ext cx="1144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Helvetica Light"/>
              </a:rPr>
              <a:t>Non-covariant cutoff scheme breaks the Lorentz invariance and leads to an unphysical oscillation when calculating screening masses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34" name="图片 2" descr=""/>
          <p:cNvPicPr/>
          <p:nvPr/>
        </p:nvPicPr>
        <p:blipFill>
          <a:blip r:embed="rId2"/>
          <a:stretch/>
        </p:blipFill>
        <p:spPr>
          <a:xfrm>
            <a:off x="2685960" y="6748560"/>
            <a:ext cx="6618240" cy="57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1560" y="-28440"/>
            <a:ext cx="1109952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0433ff"/>
                </a:solidFill>
                <a:latin typeface="Helvetica Light"/>
              </a:rPr>
              <a:t>Numerical Results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438120" y="1893960"/>
            <a:ext cx="12304800" cy="7596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11"/>
          <p:cNvSpPr/>
          <p:nvPr/>
        </p:nvSpPr>
        <p:spPr>
          <a:xfrm>
            <a:off x="12698280" y="9252000"/>
            <a:ext cx="37008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224824-4D88-4A31-AE95-A19AA79C6AA9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38" name="图片 3" descr=""/>
          <p:cNvPicPr/>
          <p:nvPr/>
        </p:nvPicPr>
        <p:blipFill>
          <a:blip r:embed="rId2"/>
          <a:stretch/>
        </p:blipFill>
        <p:spPr>
          <a:xfrm>
            <a:off x="182520" y="3581280"/>
            <a:ext cx="6407280" cy="405936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4" descr=""/>
          <p:cNvPicPr/>
          <p:nvPr/>
        </p:nvPicPr>
        <p:blipFill>
          <a:blip r:embed="rId3"/>
          <a:stretch/>
        </p:blipFill>
        <p:spPr>
          <a:xfrm>
            <a:off x="6443640" y="3581280"/>
            <a:ext cx="6445440" cy="4083120"/>
          </a:xfrm>
          <a:prstGeom prst="rect">
            <a:avLst/>
          </a:prstGeom>
          <a:ln w="0">
            <a:noFill/>
          </a:ln>
        </p:spPr>
      </p:pic>
      <p:sp>
        <p:nvSpPr>
          <p:cNvPr id="240" name="标题 1"/>
          <p:cNvSpPr/>
          <p:nvPr/>
        </p:nvSpPr>
        <p:spPr>
          <a:xfrm>
            <a:off x="465120" y="2128680"/>
            <a:ext cx="119142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eB=0.0 GeV^2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39320" y="-98280"/>
            <a:ext cx="11099880" cy="19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0433ff"/>
                </a:solidFill>
                <a:latin typeface="Helvetica Light"/>
              </a:rPr>
              <a:t>Numerical Results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38120" y="1542960"/>
            <a:ext cx="12304800" cy="968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11"/>
          <p:cNvSpPr/>
          <p:nvPr/>
        </p:nvSpPr>
        <p:spPr>
          <a:xfrm>
            <a:off x="12698280" y="9252000"/>
            <a:ext cx="37008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C0602A-DEF5-464E-8006-EB29D8CC4F3A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4" name="标题 1"/>
          <p:cNvSpPr/>
          <p:nvPr/>
        </p:nvSpPr>
        <p:spPr>
          <a:xfrm>
            <a:off x="482760" y="1736640"/>
            <a:ext cx="119142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eB=0.2 GeV^2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45" name="图片 1" descr=""/>
          <p:cNvPicPr/>
          <p:nvPr/>
        </p:nvPicPr>
        <p:blipFill>
          <a:blip r:embed="rId2"/>
          <a:stretch/>
        </p:blipFill>
        <p:spPr>
          <a:xfrm>
            <a:off x="519120" y="2630520"/>
            <a:ext cx="10944360" cy="69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39320" y="-98280"/>
            <a:ext cx="11099880" cy="19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0433ff"/>
                </a:solidFill>
                <a:latin typeface="Helvetica Light"/>
              </a:rPr>
              <a:t>Numerical Results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38120" y="1542960"/>
            <a:ext cx="12304800" cy="9684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11"/>
          <p:cNvSpPr/>
          <p:nvPr/>
        </p:nvSpPr>
        <p:spPr>
          <a:xfrm>
            <a:off x="12698280" y="9252000"/>
            <a:ext cx="37008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6472D5-4512-46EB-9ADD-122AD722E789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9" name="标题 1"/>
          <p:cNvSpPr/>
          <p:nvPr/>
        </p:nvSpPr>
        <p:spPr>
          <a:xfrm>
            <a:off x="458640" y="1731960"/>
            <a:ext cx="119142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eB=0.2 GeV^2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50" name="图片 2" descr=""/>
          <p:cNvPicPr/>
          <p:nvPr/>
        </p:nvPicPr>
        <p:blipFill>
          <a:blip r:embed="rId2"/>
          <a:stretch/>
        </p:blipFill>
        <p:spPr>
          <a:xfrm>
            <a:off x="422280" y="2652840"/>
            <a:ext cx="5302080" cy="335736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3" descr=""/>
          <p:cNvPicPr/>
          <p:nvPr/>
        </p:nvPicPr>
        <p:blipFill>
          <a:blip r:embed="rId3"/>
          <a:stretch/>
        </p:blipFill>
        <p:spPr>
          <a:xfrm>
            <a:off x="6137280" y="2625840"/>
            <a:ext cx="5345280" cy="338436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5" descr=""/>
          <p:cNvPicPr/>
          <p:nvPr/>
        </p:nvPicPr>
        <p:blipFill>
          <a:blip r:embed="rId4"/>
          <a:stretch/>
        </p:blipFill>
        <p:spPr>
          <a:xfrm>
            <a:off x="3262320" y="6035760"/>
            <a:ext cx="5751360" cy="37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39320" y="-98280"/>
            <a:ext cx="11099880" cy="19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0433ff"/>
                </a:solidFill>
                <a:latin typeface="Helvetica Light"/>
              </a:rPr>
              <a:t>Numerical Results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438120" y="1542960"/>
            <a:ext cx="12304800" cy="9684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11"/>
          <p:cNvSpPr/>
          <p:nvPr/>
        </p:nvSpPr>
        <p:spPr>
          <a:xfrm>
            <a:off x="12698280" y="9252000"/>
            <a:ext cx="37008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A1D105-722E-4A74-8219-B9B880BA1DF1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6" name="标题 1"/>
          <p:cNvSpPr/>
          <p:nvPr/>
        </p:nvSpPr>
        <p:spPr>
          <a:xfrm>
            <a:off x="482760" y="1736640"/>
            <a:ext cx="119142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eB=0.4 GeV^2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57" name="图片 2" descr=""/>
          <p:cNvPicPr/>
          <p:nvPr/>
        </p:nvPicPr>
        <p:blipFill>
          <a:blip r:embed="rId2"/>
          <a:stretch/>
        </p:blipFill>
        <p:spPr>
          <a:xfrm>
            <a:off x="1533600" y="2932200"/>
            <a:ext cx="9523440" cy="60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39320" y="-195480"/>
            <a:ext cx="11099880" cy="16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0433ff"/>
                </a:solidFill>
                <a:latin typeface="Helvetica Light"/>
              </a:rPr>
              <a:t>Numerical Results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38120" y="1447920"/>
            <a:ext cx="12304800" cy="9684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1"/>
          <p:cNvSpPr/>
          <p:nvPr/>
        </p:nvSpPr>
        <p:spPr>
          <a:xfrm>
            <a:off x="12698280" y="9252000"/>
            <a:ext cx="37008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84A3FB-9AF5-4D68-B244-5362F64C0D01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1" name="标题 1"/>
          <p:cNvSpPr/>
          <p:nvPr/>
        </p:nvSpPr>
        <p:spPr>
          <a:xfrm>
            <a:off x="539640" y="1544760"/>
            <a:ext cx="119127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eB=0.4 GeV^2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62" name="图片 1" descr=""/>
          <p:cNvPicPr/>
          <p:nvPr/>
        </p:nvPicPr>
        <p:blipFill>
          <a:blip r:embed="rId2"/>
          <a:stretch/>
        </p:blipFill>
        <p:spPr>
          <a:xfrm>
            <a:off x="711360" y="2438280"/>
            <a:ext cx="5784840" cy="36640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3" descr=""/>
          <p:cNvPicPr/>
          <p:nvPr/>
        </p:nvPicPr>
        <p:blipFill>
          <a:blip r:embed="rId3"/>
          <a:stretch/>
        </p:blipFill>
        <p:spPr>
          <a:xfrm>
            <a:off x="6496200" y="2529000"/>
            <a:ext cx="5784840" cy="366372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"/>
          <p:cNvPicPr/>
          <p:nvPr/>
        </p:nvPicPr>
        <p:blipFill>
          <a:blip r:embed="rId4"/>
          <a:stretch/>
        </p:blipFill>
        <p:spPr>
          <a:xfrm>
            <a:off x="3189240" y="6102360"/>
            <a:ext cx="5964120" cy="39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39320" y="-98280"/>
            <a:ext cx="11099880" cy="19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0433ff"/>
                </a:solidFill>
                <a:latin typeface="Helvetica Light"/>
              </a:rPr>
              <a:t>Numerical Results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438120" y="1542960"/>
            <a:ext cx="12304800" cy="9684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11"/>
          <p:cNvSpPr/>
          <p:nvPr/>
        </p:nvSpPr>
        <p:spPr>
          <a:xfrm>
            <a:off x="12698280" y="9252000"/>
            <a:ext cx="37008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5B1F2D-D0BF-4E1D-8636-716C0B9FEBB2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8" name="标题 1"/>
          <p:cNvSpPr/>
          <p:nvPr/>
        </p:nvSpPr>
        <p:spPr>
          <a:xfrm>
            <a:off x="482760" y="1736640"/>
            <a:ext cx="119142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T=0.0 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69" name="图片 1" descr=""/>
          <p:cNvPicPr/>
          <p:nvPr/>
        </p:nvPicPr>
        <p:blipFill>
          <a:blip r:embed="rId2"/>
          <a:stretch/>
        </p:blipFill>
        <p:spPr>
          <a:xfrm>
            <a:off x="1461960" y="2727360"/>
            <a:ext cx="9523440" cy="618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39320" y="-98280"/>
            <a:ext cx="11099880" cy="19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0433ff"/>
                </a:solidFill>
                <a:latin typeface="Helvetica Light"/>
              </a:rPr>
              <a:t>Numerical Results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438120" y="1542960"/>
            <a:ext cx="12304800" cy="9684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11"/>
          <p:cNvSpPr/>
          <p:nvPr/>
        </p:nvSpPr>
        <p:spPr>
          <a:xfrm>
            <a:off x="12698280" y="9252000"/>
            <a:ext cx="37008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40125E-1FD5-489D-8903-5E117A3EC8C6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3" name="标题 1"/>
          <p:cNvSpPr/>
          <p:nvPr/>
        </p:nvSpPr>
        <p:spPr>
          <a:xfrm>
            <a:off x="438120" y="1641600"/>
            <a:ext cx="119127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T=0.0 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74" name="图片 2" descr=""/>
          <p:cNvPicPr/>
          <p:nvPr/>
        </p:nvPicPr>
        <p:blipFill>
          <a:blip r:embed="rId2"/>
          <a:stretch/>
        </p:blipFill>
        <p:spPr>
          <a:xfrm>
            <a:off x="3046320" y="6032520"/>
            <a:ext cx="5759640" cy="364788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3" descr=""/>
          <p:cNvPicPr/>
          <p:nvPr/>
        </p:nvPicPr>
        <p:blipFill>
          <a:blip r:embed="rId3"/>
          <a:stretch/>
        </p:blipFill>
        <p:spPr>
          <a:xfrm>
            <a:off x="438120" y="2400480"/>
            <a:ext cx="5703840" cy="361152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5" descr=""/>
          <p:cNvPicPr/>
          <p:nvPr/>
        </p:nvPicPr>
        <p:blipFill>
          <a:blip r:embed="rId4"/>
          <a:stretch/>
        </p:blipFill>
        <p:spPr>
          <a:xfrm>
            <a:off x="6357960" y="2492280"/>
            <a:ext cx="5419800" cy="34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39320" y="-98280"/>
            <a:ext cx="11099880" cy="19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0433ff"/>
                </a:solidFill>
                <a:latin typeface="Helvetica Light"/>
              </a:rPr>
              <a:t>Numerical Results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438120" y="1542960"/>
            <a:ext cx="12304800" cy="9684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11"/>
          <p:cNvSpPr/>
          <p:nvPr/>
        </p:nvSpPr>
        <p:spPr>
          <a:xfrm>
            <a:off x="12698280" y="9252000"/>
            <a:ext cx="37008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E1497E-2B47-455B-A89C-B4739347FCBC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0" name="标题 1"/>
          <p:cNvSpPr/>
          <p:nvPr/>
        </p:nvSpPr>
        <p:spPr>
          <a:xfrm>
            <a:off x="482760" y="1736640"/>
            <a:ext cx="119142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T=0.05 GeV 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81" name="图片 1" descr=""/>
          <p:cNvPicPr/>
          <p:nvPr/>
        </p:nvPicPr>
        <p:blipFill>
          <a:blip r:embed="rId2"/>
          <a:stretch/>
        </p:blipFill>
        <p:spPr>
          <a:xfrm>
            <a:off x="1461960" y="2727360"/>
            <a:ext cx="9523440" cy="618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814320" y="3436920"/>
            <a:ext cx="10944360" cy="27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"/>
                <a:ea typeface="宋体"/>
              </a:rPr>
              <a:t>Introduction &amp; Motivation </a:t>
            </a:r>
            <a:endParaRPr b="0" lang="en-US" sz="5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39320" y="-98280"/>
            <a:ext cx="11099880" cy="19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0433ff"/>
                </a:solidFill>
                <a:latin typeface="Helvetica Light"/>
              </a:rPr>
              <a:t>Numerical Results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438120" y="1542960"/>
            <a:ext cx="12304800" cy="9684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11"/>
          <p:cNvSpPr/>
          <p:nvPr/>
        </p:nvSpPr>
        <p:spPr>
          <a:xfrm>
            <a:off x="12698280" y="9252000"/>
            <a:ext cx="37008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E93AC6-73F9-4825-8C2D-3C7486FFE4B8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5" name="标题 1"/>
          <p:cNvSpPr/>
          <p:nvPr/>
        </p:nvSpPr>
        <p:spPr>
          <a:xfrm>
            <a:off x="482760" y="1736640"/>
            <a:ext cx="11914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T=0.05 GeV 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86" name="图片 2" descr=""/>
          <p:cNvPicPr/>
          <p:nvPr/>
        </p:nvPicPr>
        <p:blipFill>
          <a:blip r:embed="rId2"/>
          <a:stretch/>
        </p:blipFill>
        <p:spPr>
          <a:xfrm>
            <a:off x="2941560" y="6129360"/>
            <a:ext cx="5670720" cy="371304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3" descr=""/>
          <p:cNvPicPr/>
          <p:nvPr/>
        </p:nvPicPr>
        <p:blipFill>
          <a:blip r:embed="rId3"/>
          <a:stretch/>
        </p:blipFill>
        <p:spPr>
          <a:xfrm>
            <a:off x="453960" y="2440080"/>
            <a:ext cx="5632560" cy="356544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5" descr=""/>
          <p:cNvPicPr/>
          <p:nvPr/>
        </p:nvPicPr>
        <p:blipFill>
          <a:blip r:embed="rId4"/>
          <a:stretch/>
        </p:blipFill>
        <p:spPr>
          <a:xfrm>
            <a:off x="6127920" y="2440080"/>
            <a:ext cx="6011640" cy="38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39320" y="-98280"/>
            <a:ext cx="11099880" cy="19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0433ff"/>
                </a:solidFill>
                <a:latin typeface="Helvetica Light"/>
              </a:rPr>
              <a:t>Numerical Results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438120" y="1542960"/>
            <a:ext cx="12304800" cy="9684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11"/>
          <p:cNvSpPr/>
          <p:nvPr/>
        </p:nvSpPr>
        <p:spPr>
          <a:xfrm>
            <a:off x="12698280" y="9252000"/>
            <a:ext cx="37008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FDCAB1-B94E-4DE3-BE27-9BBD05FD0B8F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2" name="标题 1"/>
          <p:cNvSpPr/>
          <p:nvPr/>
        </p:nvSpPr>
        <p:spPr>
          <a:xfrm>
            <a:off x="482760" y="1736640"/>
            <a:ext cx="119142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T=0.15 GeV 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93" name="图片 2" descr=""/>
          <p:cNvPicPr/>
          <p:nvPr/>
        </p:nvPicPr>
        <p:blipFill>
          <a:blip r:embed="rId2"/>
          <a:stretch/>
        </p:blipFill>
        <p:spPr>
          <a:xfrm>
            <a:off x="1389240" y="2651040"/>
            <a:ext cx="9524880" cy="59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39320" y="-98280"/>
            <a:ext cx="11099880" cy="19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0433ff"/>
                </a:solidFill>
                <a:latin typeface="Helvetica Light"/>
              </a:rPr>
              <a:t>Numerical Results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438120" y="1542960"/>
            <a:ext cx="12304800" cy="9684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11"/>
          <p:cNvSpPr/>
          <p:nvPr/>
        </p:nvSpPr>
        <p:spPr>
          <a:xfrm>
            <a:off x="12698280" y="9252000"/>
            <a:ext cx="37008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655FEB-56FB-432B-88C8-779185EBA893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7" name="标题 1"/>
          <p:cNvSpPr/>
          <p:nvPr/>
        </p:nvSpPr>
        <p:spPr>
          <a:xfrm>
            <a:off x="482760" y="1736640"/>
            <a:ext cx="119142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宋体"/>
              </a:rPr>
              <a:t>T=0.15 GeV 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98" name="图片 1" descr=""/>
          <p:cNvPicPr/>
          <p:nvPr/>
        </p:nvPicPr>
        <p:blipFill>
          <a:blip r:embed="rId2"/>
          <a:stretch/>
        </p:blipFill>
        <p:spPr>
          <a:xfrm>
            <a:off x="3333600" y="6296040"/>
            <a:ext cx="5322960" cy="337032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2" descr=""/>
          <p:cNvPicPr/>
          <p:nvPr/>
        </p:nvPicPr>
        <p:blipFill>
          <a:blip r:embed="rId3"/>
          <a:stretch/>
        </p:blipFill>
        <p:spPr>
          <a:xfrm>
            <a:off x="195120" y="2541600"/>
            <a:ext cx="5545440" cy="351144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3" descr=""/>
          <p:cNvPicPr/>
          <p:nvPr/>
        </p:nvPicPr>
        <p:blipFill>
          <a:blip r:embed="rId4"/>
          <a:stretch/>
        </p:blipFill>
        <p:spPr>
          <a:xfrm>
            <a:off x="6440400" y="2541600"/>
            <a:ext cx="5256360" cy="33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39320" y="-98280"/>
            <a:ext cx="11099880" cy="19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0433ff"/>
                </a:solidFill>
                <a:latin typeface="Helvetica Light"/>
              </a:rPr>
              <a:t>Numerical Results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438120" y="1542960"/>
            <a:ext cx="12304800" cy="9684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11"/>
          <p:cNvSpPr/>
          <p:nvPr/>
        </p:nvSpPr>
        <p:spPr>
          <a:xfrm>
            <a:off x="12698280" y="9252000"/>
            <a:ext cx="37008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F7E7D9-E068-465B-A0D0-6A0083990E84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4" name="矩形 8"/>
          <p:cNvSpPr/>
          <p:nvPr/>
        </p:nvSpPr>
        <p:spPr>
          <a:xfrm>
            <a:off x="1533600" y="4444920"/>
            <a:ext cx="40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Helvetica Light"/>
              </a:rPr>
              <a:t>arXiv:1808.10242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305" name="图片 9" descr=""/>
          <p:cNvPicPr/>
          <p:nvPr/>
        </p:nvPicPr>
        <p:blipFill>
          <a:blip r:embed="rId2"/>
          <a:stretch/>
        </p:blipFill>
        <p:spPr>
          <a:xfrm>
            <a:off x="7221600" y="1766880"/>
            <a:ext cx="5476680" cy="783108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0" descr=""/>
          <p:cNvPicPr/>
          <p:nvPr/>
        </p:nvPicPr>
        <p:blipFill>
          <a:blip r:embed="rId3"/>
          <a:stretch/>
        </p:blipFill>
        <p:spPr>
          <a:xfrm>
            <a:off x="138240" y="1639800"/>
            <a:ext cx="7188120" cy="15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39320" y="-98280"/>
            <a:ext cx="11099880" cy="19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0433ff"/>
                </a:solidFill>
                <a:latin typeface="Helvetica Light"/>
              </a:rPr>
              <a:t>Numerical Results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438120" y="1542960"/>
            <a:ext cx="12304800" cy="9684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1"/>
          <p:cNvSpPr/>
          <p:nvPr/>
        </p:nvSpPr>
        <p:spPr>
          <a:xfrm>
            <a:off x="12698280" y="9252000"/>
            <a:ext cx="37008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3E2A8D-0246-4605-9631-3A74823BD844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310" name="图片 5" descr=""/>
          <p:cNvPicPr/>
          <p:nvPr/>
        </p:nvPicPr>
        <p:blipFill>
          <a:blip r:embed="rId2"/>
          <a:stretch/>
        </p:blipFill>
        <p:spPr>
          <a:xfrm>
            <a:off x="598320" y="4313160"/>
            <a:ext cx="5543640" cy="410868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6" descr=""/>
          <p:cNvPicPr/>
          <p:nvPr/>
        </p:nvPicPr>
        <p:blipFill>
          <a:blip r:embed="rId3"/>
          <a:stretch/>
        </p:blipFill>
        <p:spPr>
          <a:xfrm>
            <a:off x="6615000" y="4610160"/>
            <a:ext cx="5112000" cy="381168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7" descr=""/>
          <p:cNvPicPr/>
          <p:nvPr/>
        </p:nvPicPr>
        <p:blipFill>
          <a:blip r:embed="rId4"/>
          <a:stretch/>
        </p:blipFill>
        <p:spPr>
          <a:xfrm>
            <a:off x="1041480" y="2843280"/>
            <a:ext cx="10856880" cy="1387440"/>
          </a:xfrm>
          <a:prstGeom prst="rect">
            <a:avLst/>
          </a:prstGeom>
          <a:ln w="0">
            <a:noFill/>
          </a:ln>
        </p:spPr>
      </p:pic>
      <p:sp>
        <p:nvSpPr>
          <p:cNvPr id="313" name="矩形 8"/>
          <p:cNvSpPr/>
          <p:nvPr/>
        </p:nvSpPr>
        <p:spPr>
          <a:xfrm>
            <a:off x="1039680" y="194328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Helvetica Light"/>
              </a:rPr>
              <a:t>arXiv:1812.00945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1"/>
          <p:cNvSpPr/>
          <p:nvPr/>
        </p:nvSpPr>
        <p:spPr>
          <a:xfrm>
            <a:off x="12606480" y="9333000"/>
            <a:ext cx="36828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98BDE7-4F5B-4E63-820C-96673876DCF0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15" name="AutoShape 2"/>
          <p:cNvSpPr/>
          <p:nvPr/>
        </p:nvSpPr>
        <p:spPr>
          <a:xfrm>
            <a:off x="1077840" y="117360"/>
            <a:ext cx="10923840" cy="171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0433ff"/>
                </a:solidFill>
                <a:latin typeface="Helvetica Light"/>
              </a:rPr>
              <a:t>Summary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1"/>
          <a:stretch/>
        </p:blipFill>
        <p:spPr>
          <a:xfrm>
            <a:off x="387360" y="1776240"/>
            <a:ext cx="12304800" cy="7632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9"/>
          <p:cNvSpPr/>
          <p:nvPr/>
        </p:nvSpPr>
        <p:spPr>
          <a:xfrm>
            <a:off x="237960" y="3324240"/>
            <a:ext cx="12117600" cy="208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18" name="AutoShape 10"/>
          <p:cNvSpPr/>
          <p:nvPr/>
        </p:nvSpPr>
        <p:spPr>
          <a:xfrm>
            <a:off x="387360" y="3486240"/>
            <a:ext cx="13004640" cy="1892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517680" indent="-51768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SzPct val="75000"/>
              <a:buFont typeface="Diwan Kufi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iwan Kufi"/>
                <a:ea typeface="Diwan Kufi"/>
              </a:rPr>
              <a:t>The Mott temperature increases with eB, which is consistent with arXiv:1812.00945,  but in contrast to arXiv:1808.10242.</a:t>
            </a:r>
            <a:endParaRPr b="0" lang="en-US" sz="3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19" name="AutoShape 11"/>
          <p:cNvSpPr/>
          <p:nvPr/>
        </p:nvSpPr>
        <p:spPr>
          <a:xfrm>
            <a:off x="452520" y="1974960"/>
            <a:ext cx="11891880" cy="1514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517680" indent="-51768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SzPct val="75000"/>
              <a:buFont typeface="Diwan Kufi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iwan Kufi"/>
                <a:ea typeface="Diwan Kufi"/>
              </a:rPr>
              <a:t>A sudden jump on the pion mass at the Mott temperature:  Infrared divergence caused by the dimensional reduction  under the magnetic field</a:t>
            </a:r>
            <a:endParaRPr b="0" lang="en-US" sz="3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23720" y="5126040"/>
            <a:ext cx="1244916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517680" indent="-51768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SzPct val="75000"/>
              <a:buFont typeface="Diwan Kufi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iwan Kufi"/>
                <a:ea typeface="Diwan Kufi"/>
              </a:rPr>
              <a:t>At finite T and B,                                     or</a:t>
            </a:r>
            <a:endParaRPr b="0" lang="en-US" sz="35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321" name="图片 1" descr=""/>
          <p:cNvPicPr/>
          <p:nvPr/>
        </p:nvPicPr>
        <p:blipFill>
          <a:blip r:embed="rId2"/>
          <a:stretch/>
        </p:blipFill>
        <p:spPr>
          <a:xfrm>
            <a:off x="4414680" y="5457960"/>
            <a:ext cx="4249800" cy="655560"/>
          </a:xfrm>
          <a:prstGeom prst="rect">
            <a:avLst/>
          </a:prstGeom>
          <a:ln w="0">
            <a:noFill/>
          </a:ln>
        </p:spPr>
      </p:pic>
      <p:pic>
        <p:nvPicPr>
          <p:cNvPr id="322" name="图片 2" descr=""/>
          <p:cNvPicPr/>
          <p:nvPr/>
        </p:nvPicPr>
        <p:blipFill>
          <a:blip r:embed="rId3"/>
          <a:stretch/>
        </p:blipFill>
        <p:spPr>
          <a:xfrm>
            <a:off x="9445680" y="5394240"/>
            <a:ext cx="2879640" cy="81756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11"/>
          <p:cNvSpPr/>
          <p:nvPr/>
        </p:nvSpPr>
        <p:spPr>
          <a:xfrm>
            <a:off x="477720" y="8134200"/>
            <a:ext cx="12497040" cy="119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517680" indent="-51768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SzPct val="75000"/>
              <a:buFont typeface="Diwan Kufi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iwan Kufi"/>
                <a:ea typeface="Diwan Kufi"/>
              </a:rPr>
              <a:t>When the temperature is less than the Mott temperature,</a:t>
            </a:r>
            <a:r>
              <a:rPr b="0" lang="en-US" sz="3500" spc="-1" strike="noStrike">
                <a:solidFill>
                  <a:srgbClr val="000000"/>
                </a:solidFill>
                <a:latin typeface="Diwan Kufi"/>
              </a:rPr>
              <a:t> the results in LML agree with full RPA well. </a:t>
            </a:r>
            <a:endParaRPr b="0" lang="en-US" sz="3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4" name="AutoShape 10"/>
          <p:cNvSpPr/>
          <p:nvPr/>
        </p:nvSpPr>
        <p:spPr>
          <a:xfrm>
            <a:off x="423720" y="6576840"/>
            <a:ext cx="1244916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517680" indent="-51768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SzPct val="75000"/>
              <a:buFont typeface="Diwan Kufi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iwan Kufi"/>
                <a:ea typeface="Diwan Kufi"/>
              </a:rPr>
              <a:t>At low T, the pion transverse screening mass increases with B; while at high T, it decreases with B.</a:t>
            </a:r>
            <a:endParaRPr b="0" lang="en-US" sz="35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560" y="3796920"/>
            <a:ext cx="110980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lang="en-US" sz="8700" spc="-1" strike="noStrike">
                <a:solidFill>
                  <a:srgbClr val="0433ff"/>
                </a:solidFill>
                <a:latin typeface="Snell Roundhand"/>
                <a:ea typeface="Snell Roundhand"/>
              </a:rPr>
              <a:t>Thanks for your attention!</a:t>
            </a:r>
            <a:endParaRPr b="0" lang="en-US" sz="87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6" name="AutoShape 2"/>
          <p:cNvSpPr/>
          <p:nvPr/>
        </p:nvSpPr>
        <p:spPr>
          <a:xfrm>
            <a:off x="12634920" y="9252000"/>
            <a:ext cx="36972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1F9FF0-6C25-447D-8BFE-E3AAE7C96090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5200" y="661680"/>
            <a:ext cx="1133784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500" spc="-1" strike="noStrike">
                <a:solidFill>
                  <a:srgbClr val="0433ff"/>
                </a:solidFill>
                <a:latin typeface="Helvetica Light"/>
              </a:rPr>
              <a:t>Strong Magnetic Fields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65200" y="2259000"/>
            <a:ext cx="12304800" cy="76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pasted-image.pdf"/>
          <p:cNvPicPr/>
          <p:nvPr/>
        </p:nvPicPr>
        <p:blipFill>
          <a:blip r:embed="rId2"/>
          <a:stretch/>
        </p:blipFill>
        <p:spPr>
          <a:xfrm>
            <a:off x="7800840" y="3095640"/>
            <a:ext cx="2872080" cy="480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pasted-image.pdf"/>
          <p:cNvPicPr/>
          <p:nvPr/>
        </p:nvPicPr>
        <p:blipFill>
          <a:blip r:embed="rId3"/>
          <a:stretch/>
        </p:blipFill>
        <p:spPr>
          <a:xfrm>
            <a:off x="6434280" y="5162400"/>
            <a:ext cx="2873160" cy="48132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5"/>
          <p:cNvSpPr/>
          <p:nvPr/>
        </p:nvSpPr>
        <p:spPr>
          <a:xfrm>
            <a:off x="587520" y="2943360"/>
            <a:ext cx="7597800" cy="787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681120" indent="-68112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SzPct val="75000"/>
              <a:buFont typeface="Diwan Kufi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Diwan Kufi"/>
                <a:ea typeface="Diwan Kufi"/>
              </a:rPr>
              <a:t>Early Universe: up to</a:t>
            </a:r>
            <a:endParaRPr b="0" lang="en-US" sz="4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88960" y="5018040"/>
            <a:ext cx="5632560" cy="749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636480" indent="-63648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SzPct val="75000"/>
              <a:buFont typeface="Diwan Kufi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Diwan Kufi"/>
                <a:ea typeface="Diwan Kufi"/>
              </a:rPr>
              <a:t>Magnetars: about</a:t>
            </a:r>
            <a:endParaRPr b="0" lang="en-US" sz="43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585720" y="7024680"/>
            <a:ext cx="7186680" cy="1130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636480" indent="-63648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SzPct val="75000"/>
              <a:buFont typeface="Diwan Kufi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Diwan Kufi"/>
                <a:ea typeface="Diwan Kufi"/>
              </a:rPr>
              <a:t>Heavy ion collisions: </a:t>
            </a:r>
            <a:endParaRPr b="0" lang="en-US" sz="43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2657240" y="9285120"/>
            <a:ext cx="241200" cy="381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22DBB6-02CE-48B1-922A-4858B7F20CC9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96" name="Picture 9" descr="pasted-image.pdf"/>
          <p:cNvPicPr/>
          <p:nvPr/>
        </p:nvPicPr>
        <p:blipFill>
          <a:blip r:embed="rId4"/>
          <a:stretch/>
        </p:blipFill>
        <p:spPr>
          <a:xfrm>
            <a:off x="7237440" y="7348680"/>
            <a:ext cx="5078520" cy="5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480" y="149400"/>
            <a:ext cx="1288224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433ff"/>
                </a:solidFill>
                <a:latin typeface="Arial"/>
                <a:ea typeface="Arial"/>
              </a:rPr>
              <a:t>QCD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200" spc="-1" strike="noStrike">
                <a:solidFill>
                  <a:srgbClr val="0433ff"/>
                </a:solidFill>
                <a:latin typeface="Arial"/>
                <a:ea typeface="Arial"/>
              </a:rPr>
              <a:t>Phase Diagram under Strong Magnetic Field</a:t>
            </a:r>
            <a:endParaRPr b="0" lang="en-US" sz="4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98" name="Picture 2" descr="image.png"/>
          <p:cNvPicPr/>
          <p:nvPr/>
        </p:nvPicPr>
        <p:blipFill>
          <a:blip r:embed="rId1"/>
          <a:stretch/>
        </p:blipFill>
        <p:spPr>
          <a:xfrm>
            <a:off x="498600" y="2112840"/>
            <a:ext cx="2754360" cy="205128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3"/>
          <p:cNvGrpSpPr/>
          <p:nvPr/>
        </p:nvGrpSpPr>
        <p:grpSpPr>
          <a:xfrm>
            <a:off x="2641680" y="3252960"/>
            <a:ext cx="7245360" cy="4856040"/>
            <a:chOff x="2641680" y="3252960"/>
            <a:chExt cx="7245360" cy="4856040"/>
          </a:xfrm>
        </p:grpSpPr>
        <p:sp>
          <p:nvSpPr>
            <p:cNvPr id="100" name="AutoShape 4"/>
            <p:cNvSpPr/>
            <p:nvPr/>
          </p:nvSpPr>
          <p:spPr>
            <a:xfrm>
              <a:off x="3387600" y="7711200"/>
              <a:ext cx="449280" cy="37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pic>
          <p:nvPicPr>
            <p:cNvPr id="101" name="Picture 5" descr="phasediagram.jpg"/>
            <p:cNvPicPr/>
            <p:nvPr/>
          </p:nvPicPr>
          <p:blipFill>
            <a:blip r:embed="rId2"/>
            <a:stretch/>
          </p:blipFill>
          <p:spPr>
            <a:xfrm>
              <a:off x="4509000" y="3252960"/>
              <a:ext cx="5378040" cy="304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Group 6"/>
            <p:cNvGrpSpPr/>
            <p:nvPr/>
          </p:nvGrpSpPr>
          <p:grpSpPr>
            <a:xfrm>
              <a:off x="2641680" y="3375360"/>
              <a:ext cx="7095240" cy="4733640"/>
              <a:chOff x="2641680" y="3375360"/>
              <a:chExt cx="7095240" cy="4733640"/>
            </a:xfrm>
          </p:grpSpPr>
          <p:sp>
            <p:nvSpPr>
              <p:cNvPr id="103" name="Line 7"/>
              <p:cNvSpPr/>
              <p:nvPr/>
            </p:nvSpPr>
            <p:spPr>
              <a:xfrm flipH="1">
                <a:off x="3238920" y="6061680"/>
                <a:ext cx="1717560" cy="1649520"/>
              </a:xfrm>
              <a:prstGeom prst="line">
                <a:avLst/>
              </a:prstGeom>
              <a:ln w="28440">
                <a:solidFill>
                  <a:srgbClr val="bbe0e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360" rIns="45360" tIns="45360" bIns="4536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04" name="AutoShape 8"/>
              <p:cNvSpPr/>
              <p:nvPr/>
            </p:nvSpPr>
            <p:spPr>
              <a:xfrm>
                <a:off x="6015960" y="5206680"/>
                <a:ext cx="1180080" cy="1982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12876" y="4959"/>
                      <a:pt x="20855" y="12938"/>
                      <a:pt x="21599" y="21600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360" rIns="45360" tIns="45360" bIns="4536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05" name="AutoShape 9"/>
              <p:cNvSpPr/>
              <p:nvPr/>
            </p:nvSpPr>
            <p:spPr>
              <a:xfrm>
                <a:off x="4303440" y="4720320"/>
                <a:ext cx="1884960" cy="619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9482" y="1007"/>
                      <a:pt x="17793" y="9318"/>
                      <a:pt x="21599" y="21600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360" rIns="45360" tIns="45360" bIns="4536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06" name="AutoShape 10"/>
              <p:cNvSpPr/>
              <p:nvPr/>
            </p:nvSpPr>
            <p:spPr>
              <a:xfrm>
                <a:off x="6002640" y="5145840"/>
                <a:ext cx="147960" cy="122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5230" y="0"/>
                    </a:moveTo>
                    <a:lnTo>
                      <a:pt x="0" y="6326"/>
                    </a:lnTo>
                    <a:lnTo>
                      <a:pt x="0" y="15273"/>
                    </a:lnTo>
                    <a:lnTo>
                      <a:pt x="5230" y="21599"/>
                    </a:lnTo>
                    <a:lnTo>
                      <a:pt x="16369" y="21599"/>
                    </a:lnTo>
                    <a:lnTo>
                      <a:pt x="21600" y="15273"/>
                    </a:lnTo>
                    <a:lnTo>
                      <a:pt x="21600" y="6326"/>
                    </a:lnTo>
                    <a:lnTo>
                      <a:pt x="16369" y="0"/>
                    </a:lnTo>
                    <a:lnTo>
                      <a:pt x="5230" y="0"/>
                    </a:lnTo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360" rIns="45360" tIns="45360" bIns="4536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07" name="Line 11"/>
              <p:cNvSpPr/>
              <p:nvPr/>
            </p:nvSpPr>
            <p:spPr>
              <a:xfrm flipH="1">
                <a:off x="3163320" y="3375360"/>
                <a:ext cx="1717560" cy="1404360"/>
              </a:xfrm>
              <a:prstGeom prst="line">
                <a:avLst/>
              </a:prstGeom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360" rIns="45360" tIns="45360" bIns="4536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08" name="Line 12"/>
              <p:cNvSpPr/>
              <p:nvPr/>
            </p:nvSpPr>
            <p:spPr>
              <a:xfrm>
                <a:off x="3163680" y="4779720"/>
                <a:ext cx="75600" cy="2932560"/>
              </a:xfrm>
              <a:prstGeom prst="line">
                <a:avLst/>
              </a:prstGeom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360" rIns="45360" tIns="45360" bIns="4536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09" name="Line 13"/>
              <p:cNvSpPr/>
              <p:nvPr/>
            </p:nvSpPr>
            <p:spPr>
              <a:xfrm flipV="1">
                <a:off x="3239280" y="7710840"/>
                <a:ext cx="5302440" cy="1080"/>
              </a:xfrm>
              <a:prstGeom prst="line">
                <a:avLst/>
              </a:prstGeom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360" rIns="45360" tIns="-44280" bIns="-4428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10" name="Line 14"/>
              <p:cNvSpPr/>
              <p:nvPr/>
            </p:nvSpPr>
            <p:spPr>
              <a:xfrm flipH="1">
                <a:off x="8541360" y="6123600"/>
                <a:ext cx="1195560" cy="1588680"/>
              </a:xfrm>
              <a:prstGeom prst="line">
                <a:avLst/>
              </a:prstGeom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360" rIns="45360" tIns="45360" bIns="4536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11" name="AutoShape 15"/>
              <p:cNvSpPr/>
              <p:nvPr/>
            </p:nvSpPr>
            <p:spPr>
              <a:xfrm flipH="1" rot="10800000">
                <a:off x="3305880" y="6128640"/>
                <a:ext cx="5460120" cy="151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12291" y="1204"/>
                      <a:pt x="21599" y="10513"/>
                      <a:pt x="21599" y="21599"/>
                    </a:cubicBezTo>
                  </a:path>
                </a:pathLst>
              </a:custGeom>
              <a:noFill/>
              <a:ln w="57240">
                <a:solidFill>
                  <a:srgbClr val="333399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360" rIns="45360" tIns="45360" bIns="4536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12" name="AutoShape 16"/>
              <p:cNvSpPr/>
              <p:nvPr/>
            </p:nvSpPr>
            <p:spPr>
              <a:xfrm>
                <a:off x="2641680" y="7407000"/>
                <a:ext cx="444960" cy="702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 Black"/>
                    <a:ea typeface="Arial Black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13" name="AutoShape 17"/>
              <p:cNvSpPr/>
              <p:nvPr/>
            </p:nvSpPr>
            <p:spPr>
              <a:xfrm>
                <a:off x="3389040" y="4107600"/>
                <a:ext cx="857520" cy="823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3300"/>
                    </a:solidFill>
                    <a:latin typeface="Arial Black"/>
                    <a:ea typeface="Arial Black"/>
                  </a:rPr>
                  <a:t>CME</a:t>
                </a:r>
                <a:endParaRPr b="0" lang="en-US" sz="2000" spc="-1" strike="noStrike">
                  <a:solidFill>
                    <a:srgbClr val="000000"/>
                  </a:solidFill>
                  <a:latin typeface="Helvetica Light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14" name="AutoShape 18"/>
              <p:cNvSpPr/>
              <p:nvPr/>
            </p:nvSpPr>
            <p:spPr>
              <a:xfrm>
                <a:off x="3463200" y="6733800"/>
                <a:ext cx="1867320" cy="352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ff"/>
                    </a:solidFill>
                    <a:latin typeface="Arial Black"/>
                    <a:ea typeface="Arial Black"/>
                  </a:rPr>
                  <a:t>Vacuum SC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15" name="AutoShape 19"/>
              <p:cNvSpPr/>
              <p:nvPr/>
            </p:nvSpPr>
            <p:spPr>
              <a:xfrm>
                <a:off x="3389040" y="4781160"/>
                <a:ext cx="1193760" cy="8276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66"/>
                    </a:solidFill>
                    <a:latin typeface="Arial Black"/>
                    <a:ea typeface="Arial Black"/>
                  </a:rPr>
                  <a:t>Inverse Magnetic 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66"/>
                    </a:solidFill>
                    <a:latin typeface="Arial Black"/>
                    <a:ea typeface="Arial Black"/>
                  </a:rPr>
                  <a:t>Catalysis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16" name="AutoShape 20"/>
              <p:cNvSpPr/>
              <p:nvPr/>
            </p:nvSpPr>
            <p:spPr>
              <a:xfrm>
                <a:off x="6674400" y="7345080"/>
                <a:ext cx="1867320" cy="446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 Black"/>
                    <a:ea typeface="Arial Black"/>
                  </a:rPr>
                  <a:t>Magnetar</a:t>
                </a:r>
                <a:endParaRPr b="0" lang="en-US" sz="18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17" name="AutoShape 21"/>
              <p:cNvSpPr/>
              <p:nvPr/>
            </p:nvSpPr>
            <p:spPr>
              <a:xfrm flipH="1">
                <a:off x="4285080" y="3985200"/>
                <a:ext cx="522000" cy="739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11376" y="0"/>
                      <a:pt x="20812" y="9436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360" rIns="45360" tIns="45360" bIns="4536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18" name="AutoShape 22"/>
              <p:cNvSpPr/>
              <p:nvPr/>
            </p:nvSpPr>
            <p:spPr>
              <a:xfrm flipH="1" rot="21124800">
                <a:off x="5988240" y="4190760"/>
                <a:ext cx="398520" cy="95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11354" y="4159"/>
                      <a:pt x="19387" y="12192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360" rIns="45360" tIns="45360" bIns="4536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19" name="AutoShape 23"/>
              <p:cNvSpPr/>
              <p:nvPr/>
            </p:nvSpPr>
            <p:spPr>
              <a:xfrm>
                <a:off x="5628600" y="6489720"/>
                <a:ext cx="1269360" cy="8276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cc00"/>
                    </a:solidFill>
                    <a:latin typeface="Arial Black"/>
                    <a:ea typeface="Arial Black"/>
                  </a:rPr>
                  <a:t>(Inverse)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6600"/>
                    </a:solidFill>
                    <a:latin typeface="Arial Black"/>
                    <a:ea typeface="Arial Black"/>
                  </a:rPr>
                  <a:t>Magnetic 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6600"/>
                    </a:solidFill>
                    <a:latin typeface="Arial Black"/>
                    <a:ea typeface="Arial Black"/>
                  </a:rPr>
                  <a:t>Catalysis?</a:t>
                </a:r>
                <a:endParaRPr b="0" lang="en-US" sz="1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</p:grpSp>
      <p:pic>
        <p:nvPicPr>
          <p:cNvPr id="120" name="Picture 24" descr=""/>
          <p:cNvPicPr/>
          <p:nvPr/>
        </p:nvPicPr>
        <p:blipFill>
          <a:blip r:embed="rId3"/>
          <a:stretch/>
        </p:blipFill>
        <p:spPr>
          <a:xfrm>
            <a:off x="349200" y="1928880"/>
            <a:ext cx="12304800" cy="7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5" descr="Magnetar-3b-450x580.png"/>
          <p:cNvPicPr/>
          <p:nvPr/>
        </p:nvPicPr>
        <p:blipFill>
          <a:blip r:embed="rId4"/>
          <a:stretch/>
        </p:blipFill>
        <p:spPr>
          <a:xfrm>
            <a:off x="9794880" y="6877080"/>
            <a:ext cx="2135160" cy="247644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26"/>
          <p:cNvSpPr/>
          <p:nvPr/>
        </p:nvSpPr>
        <p:spPr>
          <a:xfrm>
            <a:off x="12622320" y="9336240"/>
            <a:ext cx="24264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6E1AF3-7844-4374-8455-265F83A5F9A3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8880" y="-252720"/>
            <a:ext cx="1109808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100" spc="-1" strike="noStrike">
                <a:solidFill>
                  <a:srgbClr val="0433ff"/>
                </a:solidFill>
                <a:latin typeface="Helvetica Light"/>
              </a:rPr>
              <a:t> </a:t>
            </a:r>
            <a:r>
              <a:rPr b="1" lang="en-US" sz="6100" spc="-1" strike="noStrike">
                <a:solidFill>
                  <a:srgbClr val="0433ff"/>
                </a:solidFill>
                <a:latin typeface="Helvetica Light"/>
              </a:rPr>
              <a:t>Magnetic catalysis </a:t>
            </a:r>
            <a:endParaRPr b="0" lang="en-US" sz="61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24" name="Picture 25" descr=""/>
          <p:cNvPicPr/>
          <p:nvPr/>
        </p:nvPicPr>
        <p:blipFill>
          <a:blip r:embed="rId1"/>
          <a:stretch/>
        </p:blipFill>
        <p:spPr>
          <a:xfrm>
            <a:off x="425520" y="1471680"/>
            <a:ext cx="12304800" cy="75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-193680" y="3962520"/>
            <a:ext cx="6170760" cy="4141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5781600" y="3664080"/>
            <a:ext cx="6948720" cy="4680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117960" y="250668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宋体"/>
              </a:rPr>
              <a:t>Bali et.al. arXiv:1206.4205 [hep-lat]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28880" y="-252720"/>
            <a:ext cx="1109808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100" spc="-1" strike="noStrike">
                <a:solidFill>
                  <a:srgbClr val="0433ff"/>
                </a:solidFill>
                <a:latin typeface="Helvetica Light"/>
              </a:rPr>
              <a:t> </a:t>
            </a:r>
            <a:r>
              <a:rPr b="1" lang="en-US" sz="6100" spc="-1" strike="noStrike">
                <a:solidFill>
                  <a:srgbClr val="0433ff"/>
                </a:solidFill>
                <a:latin typeface="Helvetica Light"/>
              </a:rPr>
              <a:t>Magnetic catalysis </a:t>
            </a:r>
            <a:endParaRPr b="0" lang="en-US" sz="61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29" name="Picture 25" descr=""/>
          <p:cNvPicPr/>
          <p:nvPr/>
        </p:nvPicPr>
        <p:blipFill>
          <a:blip r:embed="rId1"/>
          <a:stretch/>
        </p:blipFill>
        <p:spPr>
          <a:xfrm>
            <a:off x="425520" y="1471680"/>
            <a:ext cx="12304800" cy="75960"/>
          </a:xfrm>
          <a:prstGeom prst="rect">
            <a:avLst/>
          </a:prstGeom>
          <a:ln w="0">
            <a:noFill/>
          </a:ln>
        </p:spPr>
      </p:pic>
      <p:pic>
        <p:nvPicPr>
          <p:cNvPr id="130" name="内容占位符 5" descr=""/>
          <p:cNvPicPr/>
          <p:nvPr/>
        </p:nvPicPr>
        <p:blipFill>
          <a:blip r:embed="rId2"/>
          <a:stretch/>
        </p:blipFill>
        <p:spPr>
          <a:xfrm>
            <a:off x="1317600" y="3436920"/>
            <a:ext cx="10472760" cy="5111640"/>
          </a:xfrm>
          <a:prstGeom prst="rect">
            <a:avLst/>
          </a:prstGeom>
          <a:ln w="0">
            <a:noFill/>
          </a:ln>
        </p:spPr>
      </p:pic>
      <p:sp>
        <p:nvSpPr>
          <p:cNvPr id="131" name="矩形 1"/>
          <p:cNvSpPr/>
          <p:nvPr/>
        </p:nvSpPr>
        <p:spPr>
          <a:xfrm>
            <a:off x="455760" y="1905120"/>
            <a:ext cx="650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Garamond"/>
              </a:rPr>
              <a:t>Previous Calculations: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28880" y="-252720"/>
            <a:ext cx="1109808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100" spc="-1" strike="noStrike">
                <a:solidFill>
                  <a:srgbClr val="0433ff"/>
                </a:solidFill>
                <a:latin typeface="Helvetica Light"/>
              </a:rPr>
              <a:t> </a:t>
            </a:r>
            <a:r>
              <a:rPr b="1" lang="en-US" sz="6100" spc="-1" strike="noStrike">
                <a:solidFill>
                  <a:srgbClr val="0433ff"/>
                </a:solidFill>
                <a:latin typeface="Helvetica Light"/>
              </a:rPr>
              <a:t>Inverse Magnetic catalysis </a:t>
            </a:r>
            <a:endParaRPr b="0" lang="en-US" sz="61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33" name="Picture 25" descr=""/>
          <p:cNvPicPr/>
          <p:nvPr/>
        </p:nvPicPr>
        <p:blipFill>
          <a:blip r:embed="rId1"/>
          <a:stretch/>
        </p:blipFill>
        <p:spPr>
          <a:xfrm>
            <a:off x="425520" y="1471680"/>
            <a:ext cx="12304800" cy="75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11160" y="3797280"/>
            <a:ext cx="6726240" cy="4729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3"/>
          <a:stretch/>
        </p:blipFill>
        <p:spPr>
          <a:xfrm>
            <a:off x="6203880" y="3797280"/>
            <a:ext cx="6800760" cy="4896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1"/>
          <p:cNvSpPr/>
          <p:nvPr/>
        </p:nvSpPr>
        <p:spPr>
          <a:xfrm>
            <a:off x="3540240" y="244332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宋体"/>
              </a:rPr>
              <a:t>Bali et.al. arXiv:1206.4205 [hep-lat]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4880" y="196920"/>
            <a:ext cx="1109988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0433ff"/>
                </a:solidFill>
                <a:latin typeface="Helvetica Light"/>
              </a:rPr>
              <a:t>Neutral pion and sigma in the magnetic field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4880" y="1925280"/>
            <a:ext cx="110998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35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SzPct val="75000"/>
              <a:buFont typeface="Diwan Kufi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Diwan Kufi"/>
                <a:ea typeface="Diwan Kufi"/>
              </a:rPr>
              <a:t>Nambu–Goldstone meson: </a:t>
            </a:r>
            <a:endParaRPr b="0" lang="en-US" sz="4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SzPct val="75000"/>
              <a:buFont typeface="Diwan Kufi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Diwan Kufi"/>
                <a:ea typeface="Diwan Kufi"/>
              </a:rPr>
              <a:t>Chiral Partners:          and</a:t>
            </a:r>
            <a:endParaRPr b="0" lang="en-US" sz="47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2654000" y="9299520"/>
            <a:ext cx="24120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F4F13C-A2BD-4879-858F-EF88589AB747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463680" y="1778040"/>
            <a:ext cx="12304440" cy="7632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" descr=""/>
          <p:cNvPicPr/>
          <p:nvPr/>
        </p:nvPicPr>
        <p:blipFill>
          <a:blip r:embed="rId2"/>
          <a:stretch/>
        </p:blipFill>
        <p:spPr>
          <a:xfrm>
            <a:off x="8663040" y="1881360"/>
            <a:ext cx="1079280" cy="9792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2" descr=""/>
          <p:cNvPicPr/>
          <p:nvPr/>
        </p:nvPicPr>
        <p:blipFill>
          <a:blip r:embed="rId3"/>
          <a:stretch/>
        </p:blipFill>
        <p:spPr>
          <a:xfrm>
            <a:off x="8373960" y="3252960"/>
            <a:ext cx="1098720" cy="10332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3" descr=""/>
          <p:cNvPicPr/>
          <p:nvPr/>
        </p:nvPicPr>
        <p:blipFill>
          <a:blip r:embed="rId4"/>
          <a:stretch/>
        </p:blipFill>
        <p:spPr>
          <a:xfrm>
            <a:off x="5854680" y="3076560"/>
            <a:ext cx="1195560" cy="10825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2"/>
          <p:cNvSpPr/>
          <p:nvPr/>
        </p:nvSpPr>
        <p:spPr>
          <a:xfrm>
            <a:off x="1035000" y="5308560"/>
            <a:ext cx="10542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  <a:ea typeface="黑体"/>
              </a:rPr>
              <a:t>Their properties help to understand the chiral symmetry breaking and restoration at finite T and B!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ng Yu</cp:lastModifiedBy>
  <dcterms:modified xsi:type="dcterms:W3CDTF">2019-08-19T07:29:06Z</dcterms:modified>
  <cp:revision>89</cp:revision>
  <dc:subject/>
  <dc:title>Screening masses of neutral pion and sigma in hot and magnetized medium</dc:title>
</cp:coreProperties>
</file>